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FB5-8D8D-4535-8FED-280B6139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BB8-A9E1-4082-8C83-8D849F9C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E88-C05F-452C-9A78-5F645D9C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BB9-43BA-43E8-9417-63F4619F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FB4C-9AAB-4BE7-8134-30D80E5E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B3C9-0EA5-475D-8FE0-D651E3EC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7A33-FB80-47FE-A8CA-CAAFE56D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7368-7B6C-4589-9A8B-7B1D088C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0777-341B-427A-AEB5-AEDA87FF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4FD2-68C8-4603-B706-2603A0CE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3A3B-6D2C-4607-A8FF-1690FD3F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810-904F-481F-B564-AF362049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BBF4-2DC4-4995-889B-D80B1114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2E32-2481-401E-9946-26A14A98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DF2A-813F-4C7F-A10B-BBCED81D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C9FB-8A8F-4E91-B41A-81C44A50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FDDD-118D-40D2-BC02-B0F5BD2E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1B0-45BB-433B-88BC-93CDBFBA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2E8-25CE-4416-8832-CBA74BEF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0F8-4A87-44CD-9E77-1D3F0696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12A-739A-4459-A436-0843BE45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BCE-DCF4-4E13-8573-E16AECCA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630-F0A9-47DF-929C-454E157E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3D5-B57B-414C-9F37-85F4514A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AF21-26D4-491F-820C-2C1F0FA4577C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5B94-A02D-4475-8EB1-D2016BF99973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Definite &amp; Indefinite Articles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3600"/>
            </a:b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 أدوات التعريف و النكر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re used as indefinite articl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تستخدمان كأدوات نكرة</a:t>
            </a: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 used as definite articl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تستخدم كأداة للتعري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” before a noun starting with a constant sou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نضع      قبل الأسماء التي تبدأ بحرف ساك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” before a noun starting with a vowel sou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نضع      قبل الأسماء التي تبدأ بحرف متحر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696080" y="4343400"/>
            <a:ext cx="457200" cy="1206360"/>
            <a:chOff x="7696080" y="4343400"/>
            <a:chExt cx="457200" cy="1206360"/>
          </a:xfrm>
        </p:grpSpPr>
        <p:sp>
          <p:nvSpPr>
            <p:cNvPr id="113" name=""/>
            <p:cNvSpPr/>
            <p:nvPr/>
          </p:nvSpPr>
          <p:spPr>
            <a:xfrm>
              <a:off x="777240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5181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definite Articles “a” &amp; “an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”</a:t>
            </a:r>
            <a:br>
              <a:rPr sz="3600"/>
            </a:b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 أدوات النكر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before a noun starting with a constant sou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نضع      قبل الأسماء التي تبدأ بحرف ساك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before a noun starting with a vowel sou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نضع      قبل الأسماء التي تبدأ بحرف متحر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حروف المتحركة  :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w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– e – i – o - 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2514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3886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definite Articles “a” &amp; “an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”</a:t>
            </a:r>
            <a:br>
              <a:rPr sz="3600"/>
            </a:b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 أدوات النكر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 use </a:t>
            </a: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1447920" y="2743200"/>
          <a:ext cx="7124760" cy="3200400"/>
        </p:xfrm>
        <a:graphic>
          <a:graphicData uri="http://schemas.openxmlformats.org/drawingml/2006/table">
            <a:tbl>
              <a:tblPr/>
              <a:tblGrid>
                <a:gridCol w="2590560"/>
                <a:gridCol w="2286000"/>
                <a:gridCol w="224820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singular countable nou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أسماء المفردة المعدودة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g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a job, a particular group of people or a national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وظيفة أو مجموعة معينة من الناس أو الجنسية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c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ineer. S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wome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numbers that mean ever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أرقام التي تعني ”كل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hes his hands ten time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ay.  (means every da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definite Articles “a” &amp; “an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”</a:t>
            </a:r>
            <a:br>
              <a:rPr sz="3600"/>
            </a:b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 أدوات النكر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use </a:t>
            </a: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9" name=""/>
          <p:cNvGraphicFramePr/>
          <p:nvPr/>
        </p:nvGraphicFramePr>
        <p:xfrm>
          <a:off x="1447920" y="2971800"/>
          <a:ext cx="7124760" cy="2514600"/>
        </p:xfrm>
        <a:graphic>
          <a:graphicData uri="http://schemas.openxmlformats.org/drawingml/2006/table">
            <a:tbl>
              <a:tblPr/>
              <a:tblGrid>
                <a:gridCol w="2590560"/>
                <a:gridCol w="2286000"/>
                <a:gridCol w="224820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abstract nouns and the names of met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الأسماء المعنوية و أسماء المعادن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, beauty, hatred, wood, silver, gol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plural or uncountable noun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الجمع أو الأسماء الغير معدودة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books on the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k is good for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e Definite Article “The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”</a:t>
            </a:r>
            <a:br>
              <a:rPr sz="3600"/>
            </a:b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 أدوات التعريف ”أل“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25760" y="2396880"/>
            <a:ext cx="698472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47" name=""/>
          <p:cNvGraphicFramePr/>
          <p:nvPr/>
        </p:nvGraphicFramePr>
        <p:xfrm>
          <a:off x="1835280" y="3159000"/>
          <a:ext cx="6775200" cy="2538360"/>
        </p:xfrm>
        <a:graphic>
          <a:graphicData uri="http://schemas.openxmlformats.org/drawingml/2006/table">
            <a:tbl>
              <a:tblPr/>
              <a:tblGrid>
                <a:gridCol w="2305080"/>
                <a:gridCol w="2234880"/>
                <a:gridCol w="223524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that is the only one of its ki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لا يوجد من نوعه سوى واحد فقط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iver Ni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a’ab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rivers, seas, oceans,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أنهار و البحار........الخ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abian Gul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d S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which is the object of  a sentenc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يكون مفعول به لجملة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ar answered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es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ames of musical instrumen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آلات الموسيقية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you play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uf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e Definite Article “The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”</a:t>
            </a:r>
            <a:br>
              <a:rPr sz="3600"/>
            </a:b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 أدوات التعريف ”أل“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25760" y="2396880"/>
            <a:ext cx="698472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11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1835280" y="3159000"/>
          <a:ext cx="6775200" cy="3060720"/>
        </p:xfrm>
        <a:graphic>
          <a:graphicData uri="http://schemas.openxmlformats.org/drawingml/2006/table">
            <a:tbl>
              <a:tblPr/>
              <a:tblGrid>
                <a:gridCol w="2305080"/>
                <a:gridCol w="2234880"/>
                <a:gridCol w="223524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some countri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بعض البلدان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ited Kingdom 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.S.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time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ابير الدالة على الوقت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eke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dat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تواريخ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irst day of every mont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general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بيرات العامة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dio/new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rket/deser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e Definite Article “The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”</a:t>
            </a:r>
            <a:br>
              <a:rPr sz="3600"/>
            </a:b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 أدوات التعريف ”أل“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219320" y="2286000"/>
          <a:ext cx="7391160" cy="3638520"/>
        </p:xfrm>
        <a:graphic>
          <a:graphicData uri="http://schemas.openxmlformats.org/drawingml/2006/table">
            <a:tbl>
              <a:tblPr/>
              <a:tblGrid>
                <a:gridCol w="2514600"/>
                <a:gridCol w="2438280"/>
                <a:gridCol w="24382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article with the name that is repeate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ستخدم أداة التعريف أل مع الاسم الذي ذكر للمرة الثانية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w a man.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 was you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the names of studies of subjec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أسماء المواد الدراسية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o not like science. My favorite subject is mathematic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as school, home, bed, work, 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أسماء معينة مثل مدرسة، منزل، سرير، عمل.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going to schoo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lways go to bed earl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such as day and month na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 أسماء معينة مثل الأيام و الشهور 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Monday,  in Ju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summer (sometimes in the summer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breakfas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2:41:46Z</dcterms:created>
  <dc:creator>KSA</dc:creator>
  <dc:description/>
  <dc:language>en-US</dc:language>
  <cp:lastModifiedBy>KSA</cp:lastModifiedBy>
  <dcterms:modified xsi:type="dcterms:W3CDTF">2007-11-29T12:42:05Z</dcterms:modified>
  <cp:revision>1</cp:revision>
  <dc:subject/>
  <dc:title>Definite &amp; Indefinite Articles   أدوات التعريف و النكرة</dc:title>
</cp:coreProperties>
</file>